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AE2-B747-44FB-A20D-40614ABE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0D6-F36A-4E58-BCDF-DF6D4293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8E0-156F-4A84-8825-CBFDACC7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5F1-C3FC-426D-BB73-7006076D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E4A9-BEF6-43AC-A12A-DAE5D2F1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E1A3-0B5A-4F8B-9961-9CF5C4B9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8E1A-BACF-4A14-BF43-55186688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A9E5-DFC1-4E71-BD39-2A7E6220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54D3-7F98-4ECB-87D3-786EEB2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3E15-2426-429C-9AFF-2D3287C7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2A29-E37B-42B2-9954-07E5D9F9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485-F22B-4EF3-956E-D515E3E8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EA36-4657-479B-B8A6-D6E92AFB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F82E-48C8-4C43-934C-AB97797A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2BF9-81C2-4A18-AFBB-BA4D267F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5127-FD56-479D-8BB0-49044D6D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358D-F727-4A0C-9018-3998DA9E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65D-72A6-4B43-ACAD-913472FD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9F3-288D-43A4-BCE2-4D6FBFB2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2D7-1942-4E83-983C-D2C7A3DE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148-DF7B-4D72-87FF-CBD94F80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18B-CB91-477E-B1D8-BD25B0DE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64A-4E71-467B-B363-DAAA483D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FBD-CAF1-440D-8552-696A319B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137B-78AA-4C79-A0C8-983A75A1C1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6CE2-67CE-4127-BD53-1423F61B48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915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Arial Black"/>
              </a:rPr>
              <a:t>ЛИЧНАЯ ГИГИЕН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41428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ОУ «Лицей № 6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34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должна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жилищ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ще должно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рошо освещенным солнечным с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жно проветрив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осле таких советов, думаю что вы всегда будете здоровыми, чистыми и опрятным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онятие гигие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324000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а в переводе с греческого – целебный, приносящи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2177916_f520"/>
          <p:cNvPicPr/>
          <p:nvPr/>
        </p:nvPicPr>
        <p:blipFill>
          <a:blip r:embed="rId1"/>
          <a:stretch/>
        </p:blipFill>
        <p:spPr>
          <a:xfrm>
            <a:off x="4356000" y="1557360"/>
            <a:ext cx="460872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%d0%93%d0%b8%d0%b3%d0%b8%d0%b5%d0%bd%d0%b0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кож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кожи ежедневно следует принимать душ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тье - основной вид ухода за кожей, при котором с ее поверхности удаляются пыль, микробы, пот, различные загряз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i"/>
          <p:cNvPicPr/>
          <p:nvPr/>
        </p:nvPicPr>
        <p:blipFill>
          <a:blip r:embed="rId1"/>
          <a:stretch/>
        </p:blipFill>
        <p:spPr>
          <a:xfrm>
            <a:off x="5192640" y="2398680"/>
            <a:ext cx="3640320" cy="26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ьза ба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parnaya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x_d3ab18d4"/>
          <p:cNvPicPr/>
          <p:nvPr/>
        </p:nvPicPr>
        <p:blipFill>
          <a:blip r:embed="rId2"/>
          <a:stretch/>
        </p:blipFill>
        <p:spPr>
          <a:xfrm>
            <a:off x="4932360" y="148428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_113"/>
          <p:cNvPicPr/>
          <p:nvPr/>
        </p:nvPicPr>
        <p:blipFill>
          <a:blip r:embed="rId3"/>
          <a:stretch/>
        </p:blipFill>
        <p:spPr>
          <a:xfrm>
            <a:off x="5219640" y="4076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 забудьте и о зуб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5" descr="0_705d6_a7bd8d8f_orig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одеж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17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а соответствовать времени года, характеру работы, не затруднять движения и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Рисунок1"/>
          <p:cNvPicPr/>
          <p:nvPr/>
        </p:nvPicPr>
        <p:blipFill>
          <a:blip r:embed="rId1"/>
          <a:stretch/>
        </p:blipFill>
        <p:spPr>
          <a:xfrm>
            <a:off x="4643280" y="1268280"/>
            <a:ext cx="4032360" cy="254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post-1291457207"/>
          <p:cNvPicPr/>
          <p:nvPr/>
        </p:nvPicPr>
        <p:blipFill>
          <a:blip r:embed="rId2"/>
          <a:stretch/>
        </p:blipFill>
        <p:spPr>
          <a:xfrm>
            <a:off x="5148360" y="393372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авильное хранение продуктов приводит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х порче, 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аких продуктов может вызвать пищевые отравления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ружающей нас среде находится множество микроорганизмов, которые п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приятных условиях быстро размножаются. Некоторые 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х способны вырабатывать сильные яды (токсины).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м микроорганизмам относятся плесневые грибы, дрожжи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цион должен быт разнообразны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8:53:30Z</dcterms:created>
  <dc:creator>user</dc:creator>
  <dc:description/>
  <dc:language>en-US</dc:language>
  <cp:lastModifiedBy>Учитель</cp:lastModifiedBy>
  <dcterms:modified xsi:type="dcterms:W3CDTF">2013-05-06T16:48:15Z</dcterms:modified>
  <cp:revision>4</cp:revision>
  <dc:subject/>
  <dc:title>ЛИЧНАЯ ГИГИЕНА</dc:title>
</cp:coreProperties>
</file>